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CE59-17F8-4EF9-882D-DB38A91425FC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642-D5D2-425F-B2BF-D4E87BE410D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0776-6625-4759-96F1-87325534CEAC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DB79-7DB2-4DFB-9FAB-BE81DAFD051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0E6-C8F9-4B27-AA85-BDE0FA3345D6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544-F65B-42F1-9959-F761D722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F5A-57DB-42C2-895E-D161648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A8C-1FA3-47C0-9606-DEDBCF88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AEC-6126-41CE-9AC9-2877A0A2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DFA4-9E42-4040-9741-E522B8A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04F-CDD7-46FA-BBF1-7B81FDE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F81-819A-4E02-821C-0C1F2D07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B8BF-5D24-43CC-84C9-E95844D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B322-62AC-4930-B455-63C1DCA7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36DB-7581-4CED-ACDA-D536AE3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A1B-5783-40C9-82D3-DBA27FE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2DB-23B5-4AEC-A7E9-0AA2310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27EE-C2FB-49B4-B38B-2BADDF80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466B-89D0-4683-AA81-62AA786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9182-EEC6-4191-A349-D1D5570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A6F7-B1CA-4EAB-9A67-B89F638C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8126-6199-4B7C-8D49-33F329C6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FE9-730D-491B-97B8-1D89440B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500-21C7-4287-B4CF-83DFF7D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753-6625-4834-B021-6FF10C4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C04-0F08-4D85-81A6-EB6FA09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1EA-0207-449C-94BF-F06D092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3DA-6578-415E-8976-D6E564E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70A-7CFE-41EB-9844-74F9062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B3B-739C-4762-BC91-D864C12F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84B-5845-458F-AE9D-567261A53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L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und der Rüsselstaubs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10080" y="4191120"/>
            <a:ext cx="2286000" cy="149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371600" y="3352680"/>
            <a:ext cx="228600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bbles und Bam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n und Rüsselstaubs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intstones-S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 ungestüme Fred ist der klassische Verlierer, der sich nie gegen seine Frau Wilma durchsetzen kan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3200400" y="2590920"/>
            <a:ext cx="2890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4220640"/>
            <a:ext cx="3810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arbeiten im Steinbruch von Mr.Schiefer (Mr.GeorgeSl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38680" y="4114800"/>
            <a:ext cx="228600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vollständigt wird die Familie Feuerste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und den Haushund D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Oliver Mochmann</cp:lastModifiedBy>
  <dcterms:modified xsi:type="dcterms:W3CDTF">2009-11-22T22:44:55Z</dcterms:modified>
  <cp:revision>13</cp:revision>
  <dc:subject/>
  <dc:title>PowerPoint-Präsentation</dc:title>
</cp:coreProperties>
</file>